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ED83-6E6A-4010-8365-AA705DAF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482-6A1F-4426-8684-7AD6B30B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053-B358-49DD-A897-AD1025E1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6E8-8C36-4115-9F84-E65AD91A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614-6BBD-401C-B68C-9411D671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8A0-2853-481D-9ADC-25D2D150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287-14D3-4575-878D-51F43FC9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E8B-CC75-4AEA-A423-550146D8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71F-F003-4682-8D05-96FD8F93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8D1-D4CD-4289-994B-59B46E67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4F4-BE3F-44D6-A251-A36E2D5E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EA3-BB81-40A3-B572-800903CA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CBF6-9915-4EE7-AFBB-094FDE5AB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ersuasive Strateg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21733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iz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60020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technique makes you think about everyon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9548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eenagers agree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114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know that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rs feel…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0292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time a group of people or everyone is mentioned, then the author has either generalized or exaggera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4191120" cy="175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pinion Stated As Fa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21932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uthor states his opinion, but makes it sound as if it is a fa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42900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wberry is the best flavor of ice crea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572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ar A. Poe’s work is bor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2578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time an author doesn’t defend a statement with actual research, data, etc… be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1957" t="11111" r="25343" b="0"/>
          <a:stretch/>
        </p:blipFill>
        <p:spPr>
          <a:xfrm>
            <a:off x="6934320" y="1066680"/>
            <a:ext cx="196668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2057400"/>
            <a:ext cx="2743200" cy="1752480"/>
          </a:xfrm>
          <a:prstGeom prst="cloudCallout">
            <a:avLst>
              <a:gd name="adj1" fmla="val 93810"/>
              <a:gd name="adj2" fmla="val -633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 is so much fu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otionally “Loaded”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981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uthor uses words to  make the reader feel an emotion. (anger, fear, etc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89548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only a dollar a day, you can feed a starving chil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114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love your dog enough to give him the best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50292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time an author uses words that make you feel something – identify the emotion and the words used to caus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989280" cy="99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391520" y="838080"/>
            <a:ext cx="1104840" cy="15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276720" y="1066680"/>
            <a:ext cx="645840" cy="703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724280" y="914400"/>
            <a:ext cx="1994040" cy="9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int/Counter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371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you acknowledge the other point of view, and then slam it down with you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514600"/>
            <a:ext cx="75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 tank top may be cooler during the warmer months, it is inappropriate for an educational sett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114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soda tastes really good, the calories do not provide nutrition and can cause health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0292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time an author acknowledges the opposite perspective and then puts it down with his own point of view, P/CP is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745320" y="1371600"/>
            <a:ext cx="2398680" cy="19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atistic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447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uthor uses research (data, numbers, etc.) to prove his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3623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urvey of WMS students, 1 in 3 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3657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of doctors agree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6483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time an author includes numbers, data or research to prove his point, statistics is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0" y="2362320"/>
            <a:ext cx="1676520" cy="177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g Na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4300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uthor uses famous people to support his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2286000"/>
            <a:ext cx="5791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bron James thinks Nike is the best bran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3733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President Obama uses a Blackberr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6483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time an author uses the name of a famous person to support his point, Big Names is being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697800" y="304920"/>
            <a:ext cx="207792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6:52:34Z</dcterms:created>
  <dc:creator>FCPS</dc:creator>
  <dc:description/>
  <dc:language>en-US</dc:language>
  <cp:lastModifiedBy>FCPS</cp:lastModifiedBy>
  <dcterms:modified xsi:type="dcterms:W3CDTF">2009-03-26T18:13:29Z</dcterms:modified>
  <cp:revision>5</cp:revision>
  <dc:subject/>
  <dc:title>Persuasive Strategies</dc:title>
</cp:coreProperties>
</file>